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8F3-63FE-498A-B0C0-9B67B43E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F9BA-C83A-4CEB-8D0D-E4858DCA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98D29-E694-4978-A9C3-9AB44C21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40158-E977-4A4E-ACD8-B22DC092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77790-CA39-4D9E-AB7F-14F618ED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C3F00-7A71-436A-A1B7-87E555F0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5BBB7-F6F1-494B-837E-97B778EF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AA122-0902-4672-86CF-98DDA7F4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4EF2B-D788-4868-8560-371719D3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7CFC8-C702-45D3-9E40-EA262E28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6A3E2-C433-4327-A11F-2A24D70C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EF565-1BD5-4991-BBC6-ABAB49F0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8C9-1D81-4A0E-A963-1F6C2CA9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8B5FE-A0CA-42CB-AA40-0C72E20B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B80E0-3B5B-4DBA-8B3A-C4187A0C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D1A3A-2DC5-4976-8714-18DCC542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1E174-B06B-4C21-BBEB-8BE74371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0A305-474C-4ABB-9208-1473E6A7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7D0EB-3834-4C6C-B64C-9770D065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C4E9F-11B0-4D5C-BC7B-C98C94AB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E7750-EA62-4BFF-9349-90592C1A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03321-9BBA-4A37-B561-E39FC013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17666-F10F-4904-86CA-AB08D3A6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E0C-6088-4B09-A2F4-9C67A85D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8E752-A4AA-49D4-A986-5FFE648D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123D8-EC2B-4045-889D-FD21D314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B5DB0-E7BE-4F7F-8830-DB8C12FA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CA2D3-B2F4-4B1E-8FA9-D736D034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2B3A6-AEF6-419B-B3E0-057D1F10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48CC6-5010-4A16-8C90-17A37FEF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352E5-1865-4EDF-862E-0EDD5059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5B7F5-3680-445D-AA60-9F0F1392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4B009-0AC8-4210-AEA3-3BA56198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92490-7603-40EA-8080-9A8BC753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0E1B-68CD-4BBC-B341-BD9D29FB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7BCB7-9FE4-4D65-81E4-52DDFE7F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37437-8516-4F3E-A116-FABD18D6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491AB-8221-4BF9-B689-F602192F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1FD32-08D0-46E0-AB8C-ED026A45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3DF86-FB97-4FA3-B412-013EAF06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C7F65-3FD1-49A6-AE03-49EF1322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04AE3-166A-44A7-988F-F442368B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F5D71-34DF-4AA4-B14D-BAEE3825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B001E-3C6B-4AFC-979C-D4968625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2A113-C343-436C-9EA2-75F72E7A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F192-F4B2-400B-970C-00E13EB1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9AE40-FADE-43FB-873E-2B2B3E84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AD611-E31B-4C3A-AD75-E2E41DBB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6503C-D96F-4BD0-B740-209C2AF0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CCF31-E476-42FC-9B38-50EE4A01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7664E-D3A1-4464-9C5B-6D4ADC66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B85FC-15A6-4B9E-B266-83AB195D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1C052-2250-45F1-9E28-0AC1DD51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6ACAB-03DE-4EAA-B05C-DC7789FE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E48A4-7B7E-4437-9B30-B75F8276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A630F8-330A-4817-8D0E-4F1ECFED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9B85-5773-43D2-B044-FB0BD7E4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9C0C1-FE12-43BB-9679-C08927C4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3DC28-40DD-4C42-B5D0-915825BB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B837B9-6A86-4A40-8CCC-58C982E6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3C086A-8F6D-4D3C-A6ED-E12BB8A4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4E1BB-7427-4625-99D0-E4B43929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9AE3F-E092-4E4D-A5BA-B83FE3E5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3AD2F8-3B50-49E8-B745-766A59AC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0B97EB-CBA5-487F-905F-DBFFD826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4231D2-A426-43D1-817C-734ACD45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CCC6F-908F-47F8-B8E8-60688BE9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796A-F188-4A72-A6C6-2BD6EF4E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8DEE17-60C3-423D-A2F3-3A841CB2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D89997-A68D-4655-B16B-D2B6D635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F39A88-E086-41B0-B83C-6259850B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99A386-EFAE-490A-9531-ADAD22F6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07C152-2BF9-4150-B13D-E4F29E7E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6F0A1F-B267-4190-9EA8-CF489819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2E29E4-BEE8-4A3D-AE29-E28FEB03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7B83DF-BAAC-4138-944D-888C983F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F441A-2DE1-425A-BD9D-1840C4EE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07CC87-901F-41C3-AA7D-512ABDE2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F38B-0B46-473A-BAC1-C1E689E7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0D6B0D-2E94-4DD0-9984-5EACAC73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21C6F5-FA6D-43A8-B585-0F6951DC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5E54F8-1E0C-4215-82EF-6A89CAB7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94A2E4-12A8-4763-A07A-64CA3FF1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6CCD40-269D-41FB-A1C2-E2AE2C94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967FE5-0CF5-43D9-9B81-755609AE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C4DCC7-5435-4667-90D9-ACA40069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0BCA4E-201A-4D59-A297-17C722DF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578EEA-1F52-4E87-9CC1-8B2E7C22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CF2C6A-8228-4A7B-BFF9-F5BECF7A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22AD-CACD-4E13-B842-7DA042D1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8DAB0C-065A-4957-A82F-434C094E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DE6DF8-2F5F-46EA-B90F-D87B7A88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9EF2E4-3FC1-4DC3-AF83-BF8B73D9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AE1DBD-033A-41A0-90D9-62A7A8F1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18F138-AF03-4755-A101-98B9CAB2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E5A106-9DD3-40D5-9C49-A6F39CB9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D0F98A-E0ED-41E8-87AB-D7238DA0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7973F6-4FEF-4FB3-8726-9FDA553A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F94B8A-10B1-46E5-91C9-0FA0BB68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68D0EA-6011-4374-ABA6-A4E5332D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6457-1716-4F8E-959E-ECC71332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16C9B1-BD5D-42DC-9044-782572DE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B76706-BC7A-4934-8ABF-8A243CE0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37A390-8B80-41C0-B7CB-62B18125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889010-7EDE-4178-9ADA-19CBAEBF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6C7C4D-B4B6-4FD8-BFC1-022E665D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E9EF18-6330-4F47-864B-6AFB941A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746560-8C07-48AC-907D-27B3BDE0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DDD7B0-2E7F-493E-8976-B58E8DDB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ABB662-A5ED-479E-86C7-2FB51762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3D85E7-C64E-47C3-92FC-308CF686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EE4F-A978-4A32-B433-1AAC4B9B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5EDD-BBF7-4F5F-A93D-A8F667EF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5BDF81-56A1-4C70-AADF-89204ABB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4CC71D-E94B-4AF4-82A6-FCDB7771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700E65-23E4-4690-AC96-DFFE4BCB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4DBF25-B83E-416B-8BC9-D66F40E7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50DBF1-5E3D-47DD-91AE-E44C274A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F44053-6B37-4711-BAD0-C41463F0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73099D-EC56-4248-AE27-679F6F35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2AEB38-7BA8-44AA-82BE-D56A08A4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0613E1-4AB9-4D26-8E7A-530EC7B2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96C60E-B428-4843-A73E-CD4914DB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E08D-216D-4B3C-97C0-15757591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41B082-970D-4D39-AA63-BD751825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8F239C-06EF-42DF-8ADD-9755185C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F3C7C5-9109-470F-8CE6-F1C45970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6CCD60-C74B-45F2-9032-010D8681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D9924B-A4BD-4E46-AC9B-1FE278C5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37BE7B-BF6E-44C8-AF5B-1073972A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AD1D88-2DDB-4165-830C-964BB9E3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71FA98-232C-4555-8F7E-2FF4117F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C96C37-D693-41E2-95A2-8B261D6A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780A39-0183-47EE-890D-75D55907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1EF0-7958-435C-98E0-515A93A2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764405-4FFB-4E22-B03B-BECDA42C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F61CC2-A095-4754-A123-2B5070A7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485495-E280-4DC5-A3FC-7B3A0F7E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FCA540-12C7-483E-A3D3-E820467A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80A0F1-AE3A-42FB-94A3-9E6D31BF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DEF27C-F3A7-4715-A65E-024C6524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B983AB-14C7-446E-AA0B-AB1E6546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CB114F-7872-4381-B2EC-BA15B26F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F9BDBF-56AD-4050-B610-759DE5EE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45F33F-90E0-4A6C-933F-370BEB0C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BF68-538C-4ED8-A0C5-A1B82AFD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85C686-19A4-46B0-B8F8-74937274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F68B3E-3EAA-4C3B-BD1F-04291206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8EA86B-82CD-40EA-BD2E-C855F665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A4AFE0-5880-466F-8FCA-39AB3DF0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DE6E7D-C894-481F-A022-7084B913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0FA5B3-A828-4107-9506-52F53A90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5FCC4D-2266-4772-BAF4-E2919C06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19E8A2-691F-463F-976B-E48598DD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034AE4-19C4-4213-A49E-55633A3F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AC4D57-9D0B-4D4C-83A0-3968D5D9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4E08-729B-432A-91C5-AD8B3794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1643CC-0C44-49C1-8012-BC894233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0CD89F-480E-4875-8A56-544655BF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1D3956-4BFC-4B2D-8FCE-1CB1A63A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E3AF20-D78A-4ADA-B8CB-6555637B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E52737-8910-4C32-B0D5-1AB4ED49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200E2E-8072-41CF-9534-5762716F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7DFC00-C3B7-4EE9-B604-0224D5A9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DF835A-114D-4451-B76A-340D0926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CA2E6A-FB71-438E-9002-EFBF3AC0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CBDF7C-2323-4E97-A0DB-AC646F22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877F5-6DFE-46DE-8BA8-8B34CF3B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426D8D-BE86-438B-AA1B-48BACCAF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EE11B9-A25F-4EA6-AC72-84093E37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1D6965-A880-402A-9D35-B2202AC4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4C9BB-977E-4BD1-9BA0-44BE8E5D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294D3-3D13-4564-B3E3-08324431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292C0-969E-427F-8606-8AB01F1F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1A737-7192-4D8F-AD38-A62CC059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632-29E7-4EB0-90AC-6AAA2524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962C8-AAD8-4032-8D34-355BA49E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74270-1648-4D65-B337-0AC9F415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F7E6C-7830-411F-8E53-1E3FFAE4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4CFC5-7FF2-4B48-854A-BF16776C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3F40D-421D-43F4-88DE-6C5C4F15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8A813-A0DE-4EEC-921E-C99C26D5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5AF8A-CDB3-4395-91E7-91866682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AC24E-5BA3-4DE0-9911-1EBDCF85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33FD7-CD94-4FED-9A8C-5372516A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66B75-BB60-417A-97FA-61B202D9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D99-DB73-485C-91BD-B82F7A53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8FC73-D9B2-41B1-9BA0-FAE31901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AB2F7-390B-4A27-821B-FCDD820A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83616-B2E2-486C-ACDC-E7A3EB5E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17CA8-FE88-419F-A435-32607A2D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A0494-33A1-4057-85D0-AAA5F075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84F80-6A70-4428-9187-9A942BAE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2F366-5E47-4571-84B3-F403C7C5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80DF4-78BD-4F51-91B8-A0FF6D1B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9B312-A354-4121-BC54-5C11394D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15D8F-9C5F-40E1-9DA3-97A62BD8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9039-4B18-489D-A271-F5F14A95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0EF2D-CDEC-46A5-93B5-07A69A22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93731-696C-4885-810A-8C00E300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34234-BD8D-454A-9564-514C05F4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991A2-F3A3-4E93-940A-066CBA30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AE9D6-F1CF-4080-8126-D6AB2C44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001B3-F6B8-4028-969D-BCF9028B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FDC35-A396-4C69-B79F-A92BE6A9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B6267-1D5A-4831-B41C-22409EC5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BF682-3BA1-4577-B500-EC4952BB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9D06A-CC3F-4518-8545-D14AA824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6457-2AC9-4F41-B739-5CA71BE6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06D48-A0C5-42E4-8CE3-1A723F2D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B4EB0-C120-4177-AD03-C86E9916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88C58-87AB-4322-948F-2C6185E4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361D6-2939-4C0D-AE72-49DFF71E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84D7C-7017-456D-987C-0D5A42B2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B4B77-469F-4030-A4F4-D8D9AF86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CBA1B-A0AF-45E8-B08F-E25756A9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385A3-360E-494A-86AF-9490F13C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4949F-6490-4B6C-A05C-7CB63AB2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443F2-B300-4777-86F8-3E6235E2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714-F5F9-43D2-844B-D36C24E2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272A7-D943-4742-BE76-F8B60C76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B43A2-5FA9-45CF-81F5-CFBBCA74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A9AF0-8017-44EE-9470-A7E71233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B8D59-8F1F-4325-97F1-CAE3A17C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D51E6-F25A-47A7-88CB-40BB9534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5420B-C893-43D6-B2C5-02834F41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F23B8-A53B-47F9-A6B1-FA8AEB85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EB551-4EED-4C88-97E6-906A8B1D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29278-6C32-432E-97F9-2F18E8F3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BA41F-8A18-4354-8DAB-D22EA225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4FA5-1949-42CF-A08D-F1DB649E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ECAD9-CBBE-4690-944C-ECE4499C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356F0-1297-4F6A-AABF-E82E139C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74F27-AE8D-4759-9CEC-67B81E1C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9E9B8-048D-48B0-B840-B2FBDE41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18F47-9064-4FB9-8F74-948CA58E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55883-1317-4E26-B1E1-8950FBB0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74D08-8E1B-425E-8F25-B1EC0766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15D64-C0BC-4522-B479-B3DD29A6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02D19-D46C-47D4-88FC-33D83250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6D9D1-2CD6-4FAD-AC14-C34A54C4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917-F10E-44FC-8E4D-63897000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893F0-DAC2-45AD-B934-E5CF0926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E0817-19A5-4F9F-A369-C44B4653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67840-CB3F-4BCB-9324-B75B048B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A57ED-B6DF-4D52-AA9E-E48A9857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49786-76C7-4654-87C0-FFB67916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1BD56-3905-446B-9951-93870CCA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9A6DD-BFEE-41E8-B708-A9C2EC86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8CB1D-AF9F-457F-908C-E0C9B5B9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3D2A6-CFB8-44A5-955B-AC06E118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B8326-C3FD-4D70-B14B-CE779415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F10A-D837-4720-81EF-CBA3D72F4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8C3D-887C-48A1-BDAD-384E7D24F5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D08B-CB6C-4A15-8E3B-92782DEB1F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F665-096F-4C95-9220-25C2011FAC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A296-9608-436E-9EFA-0955E90914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7115-5669-4BD3-8B1A-78E4B8E4FF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0791-51F7-4741-8830-540428E689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A520-536B-4E3A-8C0E-4845FCFFFC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9B02-9453-4278-B5BD-710FFCC11F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2843-CA28-4F03-AE06-1CC9FECD13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A3CA-05D8-461F-8F6E-6365C66C96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44DA-29A6-4B0B-BF50-5223694978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AE84-BE0A-4CC3-B553-A5DB268672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022F-3524-4D1A-BE5D-B5FC6C2599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40F3-452D-4B22-82F3-7E3C326952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4D27-C681-40D9-8B13-82A76D32DE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9875-0C26-4A15-B63A-628197CF05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94C9-4D0E-43BC-8238-8C7C04DE40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7364-CD28-45F0-AED6-3D9CF97206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A9F4-AA23-4AB0-87AD-CFAC046743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CFA9-9D33-4CCB-B6F3-7BBB70EE83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1DC5-ECFE-4F4F-905A-8D2A5E6491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A5F8-C2E4-4621-8755-BD1A48ACC7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B0FF-A9CE-451E-9BA5-7FCC7EECAC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596E-313F-473A-AED5-C86BA78AB0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8B3B-7047-43C7-8C9A-7961ADBB42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6871-3F85-4FA7-B619-D0AAE40695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70A6-1627-490B-8BEF-A2EFA1114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B2E7-7472-4BED-A3AC-AA9DBD9F93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F8B2-152D-4A04-AB4D-4C699081AE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65C7-FAF8-4B98-9B7C-07B4232518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88BC-BF80-4115-BFBC-9BDA34EA4E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BD72-22A9-466B-AB76-6CBAFEE6BD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B624-916A-47F2-871C-DAD6283A8E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D676-4721-4A2E-B5B7-BE29E17EED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B921-8F97-4FB4-9154-C3392996A0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F584-2493-489A-8FBA-DDAFAD7D94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7452-EB1C-48BC-A7F7-E061B3276E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4690-A2D9-49AB-9CB0-5B415752DF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EA30-EB0D-4BFE-81F8-735826C243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3203640" y="1773360"/>
            <a:ext cx="2495520" cy="5810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" descr=""/>
          <p:cNvPicPr/>
          <p:nvPr/>
        </p:nvPicPr>
        <p:blipFill>
          <a:blip r:embed="rId2"/>
          <a:stretch/>
        </p:blipFill>
        <p:spPr>
          <a:xfrm>
            <a:off x="90360" y="3114720"/>
            <a:ext cx="89632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28560" y="963720"/>
            <a:ext cx="7886880" cy="34272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2"/>
          <a:stretch/>
        </p:blipFill>
        <p:spPr>
          <a:xfrm>
            <a:off x="6357960" y="1285920"/>
            <a:ext cx="1357200" cy="4046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3"/>
          <a:stretch/>
        </p:blipFill>
        <p:spPr>
          <a:xfrm>
            <a:off x="6643800" y="2000160"/>
            <a:ext cx="857160" cy="4050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4"/>
          <a:stretch/>
        </p:blipFill>
        <p:spPr>
          <a:xfrm>
            <a:off x="5857920" y="3286080"/>
            <a:ext cx="85716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1" descr=""/>
          <p:cNvPicPr/>
          <p:nvPr/>
        </p:nvPicPr>
        <p:blipFill>
          <a:blip r:embed="rId1"/>
          <a:stretch/>
        </p:blipFill>
        <p:spPr>
          <a:xfrm>
            <a:off x="361800" y="1106640"/>
            <a:ext cx="8420400" cy="51228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2"/>
          <a:stretch/>
        </p:blipFill>
        <p:spPr>
          <a:xfrm>
            <a:off x="3429000" y="2273400"/>
            <a:ext cx="642960" cy="4046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3"/>
          <a:stretch/>
        </p:blipFill>
        <p:spPr>
          <a:xfrm>
            <a:off x="3357720" y="4000680"/>
            <a:ext cx="857160" cy="4046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4"/>
          <a:stretch/>
        </p:blipFill>
        <p:spPr>
          <a:xfrm>
            <a:off x="3929040" y="5715000"/>
            <a:ext cx="11430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1" descr=""/>
          <p:cNvPicPr/>
          <p:nvPr/>
        </p:nvPicPr>
        <p:blipFill>
          <a:blip r:embed="rId1"/>
          <a:stretch/>
        </p:blipFill>
        <p:spPr>
          <a:xfrm>
            <a:off x="352440" y="919080"/>
            <a:ext cx="8439120" cy="56293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2"/>
          <a:stretch/>
        </p:blipFill>
        <p:spPr>
          <a:xfrm>
            <a:off x="6357960" y="5000760"/>
            <a:ext cx="857160" cy="4046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3"/>
          <a:stretch/>
        </p:blipFill>
        <p:spPr>
          <a:xfrm>
            <a:off x="8072280" y="5548320"/>
            <a:ext cx="85752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图片 1" descr=""/>
          <p:cNvPicPr/>
          <p:nvPr/>
        </p:nvPicPr>
        <p:blipFill>
          <a:blip r:embed="rId1"/>
          <a:stretch/>
        </p:blipFill>
        <p:spPr>
          <a:xfrm>
            <a:off x="633240" y="1182600"/>
            <a:ext cx="7875720" cy="51228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2"/>
          <a:stretch/>
        </p:blipFill>
        <p:spPr>
          <a:xfrm>
            <a:off x="6143760" y="1214280"/>
            <a:ext cx="2214360" cy="4050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3"/>
          <a:stretch/>
        </p:blipFill>
        <p:spPr>
          <a:xfrm>
            <a:off x="1143000" y="1785960"/>
            <a:ext cx="2786040" cy="4046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4"/>
          <a:stretch/>
        </p:blipFill>
        <p:spPr>
          <a:xfrm>
            <a:off x="4500720" y="2928960"/>
            <a:ext cx="857160" cy="4046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5"/>
          <a:stretch/>
        </p:blipFill>
        <p:spPr>
          <a:xfrm>
            <a:off x="6858000" y="5786280"/>
            <a:ext cx="85716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3" descr=""/>
          <p:cNvPicPr/>
          <p:nvPr/>
        </p:nvPicPr>
        <p:blipFill>
          <a:blip r:embed="rId1"/>
          <a:stretch/>
        </p:blipFill>
        <p:spPr>
          <a:xfrm>
            <a:off x="128520" y="971640"/>
            <a:ext cx="8886960" cy="49147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2"/>
          <a:stretch/>
        </p:blipFill>
        <p:spPr>
          <a:xfrm>
            <a:off x="3000240" y="2071800"/>
            <a:ext cx="649440" cy="3301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3"/>
          <a:stretch/>
        </p:blipFill>
        <p:spPr>
          <a:xfrm>
            <a:off x="4429080" y="2071800"/>
            <a:ext cx="649440" cy="3301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4"/>
          <a:stretch/>
        </p:blipFill>
        <p:spPr>
          <a:xfrm>
            <a:off x="5786280" y="2071800"/>
            <a:ext cx="649440" cy="3301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5"/>
          <a:stretch/>
        </p:blipFill>
        <p:spPr>
          <a:xfrm>
            <a:off x="4214880" y="2428920"/>
            <a:ext cx="1214280" cy="330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6"/>
          <a:stretch/>
        </p:blipFill>
        <p:spPr>
          <a:xfrm>
            <a:off x="6643800" y="2428920"/>
            <a:ext cx="785880" cy="330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7"/>
          <a:stretch/>
        </p:blipFill>
        <p:spPr>
          <a:xfrm>
            <a:off x="2928960" y="3143160"/>
            <a:ext cx="649440" cy="330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8"/>
          <a:stretch/>
        </p:blipFill>
        <p:spPr>
          <a:xfrm>
            <a:off x="4429080" y="3143160"/>
            <a:ext cx="649440" cy="330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9"/>
          <a:stretch/>
        </p:blipFill>
        <p:spPr>
          <a:xfrm>
            <a:off x="1714680" y="3500280"/>
            <a:ext cx="649080" cy="330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10"/>
          <a:stretch/>
        </p:blipFill>
        <p:spPr>
          <a:xfrm>
            <a:off x="8286840" y="5527800"/>
            <a:ext cx="42840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3" descr=""/>
          <p:cNvPicPr/>
          <p:nvPr/>
        </p:nvPicPr>
        <p:blipFill>
          <a:blip r:embed="rId1"/>
          <a:stretch/>
        </p:blipFill>
        <p:spPr>
          <a:xfrm>
            <a:off x="171360" y="789120"/>
            <a:ext cx="8801280" cy="5952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2"/>
          <a:stretch/>
        </p:blipFill>
        <p:spPr>
          <a:xfrm>
            <a:off x="8412120" y="3166920"/>
            <a:ext cx="374760" cy="330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3"/>
          <a:stretch/>
        </p:blipFill>
        <p:spPr>
          <a:xfrm>
            <a:off x="4286160" y="6000840"/>
            <a:ext cx="1428840" cy="330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4"/>
          <a:stretch/>
        </p:blipFill>
        <p:spPr>
          <a:xfrm>
            <a:off x="1285920" y="6357960"/>
            <a:ext cx="64908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142920" y="736560"/>
            <a:ext cx="8858160" cy="60771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2"/>
          <a:stretch/>
        </p:blipFill>
        <p:spPr>
          <a:xfrm>
            <a:off x="5072040" y="690480"/>
            <a:ext cx="857160" cy="330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3"/>
          <a:stretch/>
        </p:blipFill>
        <p:spPr>
          <a:xfrm>
            <a:off x="7858080" y="690480"/>
            <a:ext cx="649440" cy="330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4"/>
          <a:stretch/>
        </p:blipFill>
        <p:spPr>
          <a:xfrm>
            <a:off x="4286160" y="1081080"/>
            <a:ext cx="2000520" cy="285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5"/>
          <a:stretch/>
        </p:blipFill>
        <p:spPr>
          <a:xfrm>
            <a:off x="8429760" y="2214720"/>
            <a:ext cx="357120" cy="330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6"/>
          <a:stretch/>
        </p:blipFill>
        <p:spPr>
          <a:xfrm>
            <a:off x="5143680" y="4643280"/>
            <a:ext cx="857160" cy="330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7"/>
          <a:stretch/>
        </p:blipFill>
        <p:spPr>
          <a:xfrm>
            <a:off x="3714840" y="5357880"/>
            <a:ext cx="649080" cy="330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8"/>
          <a:stretch/>
        </p:blipFill>
        <p:spPr>
          <a:xfrm>
            <a:off x="1380960" y="6429240"/>
            <a:ext cx="649440" cy="330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9"/>
          <a:stretch/>
        </p:blipFill>
        <p:spPr>
          <a:xfrm>
            <a:off x="4500720" y="6429240"/>
            <a:ext cx="35712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2" descr=""/>
          <p:cNvPicPr/>
          <p:nvPr/>
        </p:nvPicPr>
        <p:blipFill>
          <a:blip r:embed="rId1"/>
          <a:stretch/>
        </p:blipFill>
        <p:spPr>
          <a:xfrm>
            <a:off x="343080" y="977760"/>
            <a:ext cx="8458200" cy="56865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2"/>
          <a:stretch/>
        </p:blipFill>
        <p:spPr>
          <a:xfrm>
            <a:off x="7905600" y="334332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412920" y="689040"/>
            <a:ext cx="8513640" cy="558144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2" descr=""/>
          <p:cNvPicPr/>
          <p:nvPr/>
        </p:nvPicPr>
        <p:blipFill>
          <a:blip r:embed="rId2"/>
          <a:stretch/>
        </p:blipFill>
        <p:spPr>
          <a:xfrm>
            <a:off x="957240" y="6353280"/>
            <a:ext cx="5791320" cy="4572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3"/>
          <a:stretch/>
        </p:blipFill>
        <p:spPr>
          <a:xfrm>
            <a:off x="8113680" y="410544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1" descr=""/>
          <p:cNvPicPr/>
          <p:nvPr/>
        </p:nvPicPr>
        <p:blipFill>
          <a:blip r:embed="rId1"/>
          <a:stretch/>
        </p:blipFill>
        <p:spPr>
          <a:xfrm>
            <a:off x="314280" y="844560"/>
            <a:ext cx="8515440" cy="5743440"/>
          </a:xfrm>
          <a:prstGeom prst="rect">
            <a:avLst/>
          </a:prstGeom>
          <a:ln w="0">
            <a:noFill/>
          </a:ln>
        </p:spPr>
      </p:pic>
      <p:pic>
        <p:nvPicPr>
          <p:cNvPr id="1053" name="图片 2" descr=""/>
          <p:cNvPicPr/>
          <p:nvPr/>
        </p:nvPicPr>
        <p:blipFill>
          <a:blip r:embed="rId2"/>
          <a:stretch/>
        </p:blipFill>
        <p:spPr>
          <a:xfrm>
            <a:off x="5813280" y="3703680"/>
            <a:ext cx="2951280" cy="30859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3"/>
          <a:stretch/>
        </p:blipFill>
        <p:spPr>
          <a:xfrm>
            <a:off x="7858080" y="3081240"/>
            <a:ext cx="51912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1008000" y="752400"/>
            <a:ext cx="4894200" cy="101916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2" descr=""/>
          <p:cNvPicPr/>
          <p:nvPr/>
        </p:nvPicPr>
        <p:blipFill>
          <a:blip r:embed="rId2"/>
          <a:stretch/>
        </p:blipFill>
        <p:spPr>
          <a:xfrm>
            <a:off x="366840" y="1874880"/>
            <a:ext cx="8408880" cy="4913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3"/>
          <a:stretch/>
        </p:blipFill>
        <p:spPr>
          <a:xfrm>
            <a:off x="2928960" y="5072040"/>
            <a:ext cx="785880" cy="4428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4"/>
          <a:stretch/>
        </p:blipFill>
        <p:spPr>
          <a:xfrm>
            <a:off x="6429240" y="5072040"/>
            <a:ext cx="857520" cy="4050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5"/>
          <a:stretch/>
        </p:blipFill>
        <p:spPr>
          <a:xfrm>
            <a:off x="8001000" y="5643720"/>
            <a:ext cx="857160" cy="4046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6"/>
          <a:stretch/>
        </p:blipFill>
        <p:spPr>
          <a:xfrm>
            <a:off x="1571760" y="6238800"/>
            <a:ext cx="221436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1" descr=""/>
          <p:cNvPicPr/>
          <p:nvPr/>
        </p:nvPicPr>
        <p:blipFill>
          <a:blip r:embed="rId1"/>
          <a:stretch/>
        </p:blipFill>
        <p:spPr>
          <a:xfrm>
            <a:off x="836640" y="1206360"/>
            <a:ext cx="7808760" cy="99072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2" descr=""/>
          <p:cNvPicPr/>
          <p:nvPr/>
        </p:nvPicPr>
        <p:blipFill>
          <a:blip r:embed="rId2"/>
          <a:stretch/>
        </p:blipFill>
        <p:spPr>
          <a:xfrm>
            <a:off x="307800" y="2371680"/>
            <a:ext cx="8353440" cy="39816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3"/>
          <a:stretch/>
        </p:blipFill>
        <p:spPr>
          <a:xfrm>
            <a:off x="6143760" y="1190520"/>
            <a:ext cx="857160" cy="4050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4"/>
          <a:stretch/>
        </p:blipFill>
        <p:spPr>
          <a:xfrm>
            <a:off x="5429160" y="5262480"/>
            <a:ext cx="107172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4T03:45:36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